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DE8DA-2C5A-4C4F-B8D7-AB5B42E6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344B-7327-4402-99FB-E62025A7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702E-40F5-417A-80F1-1F41DB00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F1DD-A555-48C3-97EC-26F54019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E558-80EA-4A52-B380-77505E55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5653-1817-4496-85B4-169EC41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9D4F-7175-4C0A-9E86-D9436436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B9EF-0304-4C3B-874A-1466CA43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9145-90FE-406E-A6B1-AF59D165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079F-7970-4FCF-AE00-C4692D31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0B14-7FCB-4853-9FD6-24E25828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91DBA-770A-458F-AC7E-87A55025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BA46-3671-4013-9E28-02D7A89E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82B1-899F-4FFB-9749-F77571CA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AEDD-1E58-43CC-812B-36BB8F77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AD31-5B83-458A-A1D1-C7A104BA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8AA8-C1A8-4B8D-B25E-5336B1C6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9B2D-8F5B-467F-9A13-9E892DFE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33B1-BCFC-42FE-9EEA-345C7FD3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0E41-386F-4E09-9FBA-2BC42622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1A38-9837-47F6-8274-64CB1145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EFA16-A675-4827-A0C5-E410C78D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B3CE-9D09-4244-B33C-80B47236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3B74-3B36-4DA5-BACE-876A59D8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A2A1-B0A7-44DE-BC23-5A403C219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1B57-40C6-40C6-8CCE-2E83DBE5E8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6000" y="2637000"/>
            <a:ext cx="583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Зачем нужны дроби?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Garamond"/>
              </a:rPr>
              <a:t>Авторы и участники проекта:</a:t>
            </a:r>
            <a:r>
              <a:rPr b="0" lang="ru-RU" sz="3200" spc="-1" strike="noStrike">
                <a:solidFill>
                  <a:srgbClr val="89898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2944"/>
                </a:solidFill>
                <a:latin typeface="Garamond"/>
              </a:rPr>
              <a:t>Группа </a:t>
            </a:r>
            <a:r>
              <a:rPr b="1" lang="ru-RU" sz="3200" spc="-1" strike="noStrike">
                <a:solidFill>
                  <a:srgbClr val="e91b05"/>
                </a:solidFill>
                <a:latin typeface="Garamond"/>
              </a:rPr>
              <a:t>«Историк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2944"/>
                </a:solidFill>
                <a:latin typeface="Garamond"/>
              </a:rPr>
              <a:t>Группа  </a:t>
            </a:r>
            <a:r>
              <a:rPr b="1" lang="ru-RU" sz="3200" spc="-1" strike="noStrike">
                <a:solidFill>
                  <a:srgbClr val="e91b05"/>
                </a:solidFill>
                <a:latin typeface="Garamond"/>
              </a:rPr>
              <a:t>«Исследовател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260280"/>
            <a:ext cx="595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ff"/>
                </a:solidFill>
                <a:latin typeface="Garamond"/>
              </a:rPr>
              <a:t>Как возникли                   дроби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Garamond"/>
              </a:rPr>
              <a:t>Результат анкетиров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В опросе участвовало 52 челов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«Да»</a:t>
            </a: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49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«Нет»</a:t>
            </a: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3 чело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Задачи, решаемые родителями в своей профессиональной деятель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дитель – дальнобойщик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Я отправился в рейс из пункта А в пункт В, расстояние между которыми 369 км. В 13 ч 30 мин я проехал девятую часть пути. С какой скоростью мне нужно ехать, чтобы прибыть в фирму до её закрытия (закрывается в 18 ч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Повар:</a:t>
            </a:r>
            <a:br>
              <a:rPr sz="4000"/>
            </a:br>
            <a:r>
              <a:rPr b="1" lang="ru-RU" sz="4000" spc="-1" strike="noStrike">
                <a:solidFill>
                  <a:srgbClr val="9900ff"/>
                </a:solidFill>
                <a:latin typeface="Garamond"/>
              </a:rPr>
              <a:t>Для приготовления борща из 500 грамм мяса необходимо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2133720"/>
          <a:ext cx="5008680" cy="4236840"/>
        </p:xfrm>
        <a:graphic>
          <a:graphicData uri="http://schemas.openxmlformats.org/drawingml/2006/table">
            <a:tbl>
              <a:tblPr/>
              <a:tblGrid>
                <a:gridCol w="2271600"/>
                <a:gridCol w="27370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Garamond"/>
                        </a:rPr>
                        <a:t>      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Garamond"/>
                        </a:rPr>
                        <a:t>Рецепт борщ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0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ома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Garamond"/>
              </a:rPr>
              <a:t>Рассчитайте расход продуктов на приготовление борща из 3 кг мя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28760" y="1844640"/>
          <a:ext cx="5000400" cy="481824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</a:tblGrid>
              <a:tr h="552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ецепт борщ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ом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886e0"/>
                </a:solidFill>
                <a:latin typeface="Garamond"/>
              </a:rPr>
              <a:t>Электрик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Длина провода 12 м. На ремонт стальной лампы израсходовал ¼ этого куска. Хватит ли мне оставшегося провода, чтобы заменить проводку в комнате размером 3х4 (замену нужно произвести по двум смежным стенам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Garamond"/>
              </a:rPr>
              <a:t>Вывод!!!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Людям разных профессий необходимо уметь решать задачи на дроби, знать правила сложения и вычитания, умножения и деления дроб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900cc"/>
                </a:solidFill>
                <a:latin typeface="Garamond"/>
              </a:rPr>
              <a:t>Спасибо за внимание!!!</a:t>
            </a:r>
            <a:br>
              <a:rPr sz="8800"/>
            </a:b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93333"/>
                </a:solidFill>
                <a:latin typeface="Garamond"/>
              </a:rPr>
              <a:t>«Историки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ПРЕДСТАВЛЯЮТ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!!!!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ff"/>
                </a:solidFill>
                <a:latin typeface="Gill Sans Ultra Bold"/>
              </a:rPr>
              <a:t>«Как возникли дроби»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Первые источники о дробя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00ff"/>
                </a:solidFill>
                <a:latin typeface="Arial Black"/>
              </a:rPr>
              <a:t>Египетский математический кожаный свит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Московский математический папирус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длина составляет 5,40 м, а его ширина от 4 до 7 см. (Он был составлен около 1850 до н. 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Деревянная табличка Ахм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aramond"/>
              </a:rPr>
              <a:t>папирус Ринд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свиток длиной 5,25 м. и шириной 33 см. (ок. 1650 до н. э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роби!</a:t>
            </a:r>
            <a:r>
              <a:rPr b="1" lang="ru-RU" sz="4400" spc="-1" strike="noStrike">
                <a:solidFill>
                  <a:srgbClr val="cc00ff"/>
                </a:solidFill>
                <a:latin typeface="Garamond"/>
              </a:rPr>
              <a:t> Какие они в Древнем Вавилон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Шестидесятеричные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и обозначались: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пример, время 3 ч 17 мин. 28 с можно записать и так: 3,17'28" ч (читается 3 целых, 17 шестидесятых 28 три тысячи шестисотых часа)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Garamond"/>
              </a:rPr>
              <a:t>Отношение к дробям в Древней Греци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читали, что </a:t>
            </a:r>
            <a:r>
              <a:rPr b="1" lang="ru-RU" sz="3600" spc="-1" strike="noStrike">
                <a:solidFill>
                  <a:srgbClr val="cc00ff"/>
                </a:solidFill>
                <a:latin typeface="Garamond"/>
              </a:rPr>
              <a:t>дроби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 можно использовать только в </a:t>
            </a:r>
            <a:r>
              <a:rPr b="1" lang="ru-RU" sz="3600" spc="-1" strike="noStrike">
                <a:solidFill>
                  <a:srgbClr val="cc00ff"/>
                </a:solidFill>
                <a:latin typeface="Garamond"/>
              </a:rPr>
              <a:t>логистике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. Впервые встречается общее понятие дроби вида </a:t>
            </a:r>
            <a:r>
              <a:rPr b="1" i="1" lang="ru-RU" sz="3600" spc="-1" strike="noStrike">
                <a:solidFill>
                  <a:srgbClr val="00ff00"/>
                </a:solidFill>
                <a:latin typeface="Garamond"/>
              </a:rPr>
              <a:t>m/n.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Rockwell Extra Bold"/>
              </a:rPr>
              <a:t>Где стали записывать дробь с помощью числителя и знаменателя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8218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Garamond"/>
              </a:rPr>
              <a:t>Современную систему записи дробей с числителем и знаменателем создали в Индии. Только там писали знаменатель сверху, а числитель - снизу, и не писали дробной черты. А записывать дроби в точности, как сейчас, стали араб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ff"/>
                </a:solidFill>
                <a:latin typeface="Garamond"/>
              </a:rPr>
              <a:t>«Исследователи»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ff00"/>
                </a:solidFill>
                <a:latin typeface="Garamond"/>
              </a:rPr>
              <a:t>Профессия и дроби!!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ff"/>
                </a:solidFill>
                <a:latin typeface="Garamond"/>
              </a:rPr>
              <a:t>Цели исследования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Доказать, что людям разной профессии нужны дроб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Garamond"/>
              </a:rPr>
              <a:t>Результаты исследова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В ходе исследований было проведено анкетирование родителей всего класса, с целью выяснения использования дробей в его професс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4:57:13Z</dcterms:created>
  <dc:creator>Admin</dc:creator>
  <dc:description/>
  <dc:language>en-US</dc:language>
  <cp:lastModifiedBy>26518</cp:lastModifiedBy>
  <dcterms:modified xsi:type="dcterms:W3CDTF">2010-05-28T04:14:20Z</dcterms:modified>
  <cp:revision>6</cp:revision>
  <dc:subject/>
  <dc:title>Зачем нужны дроби?</dc:title>
</cp:coreProperties>
</file>